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6BB-C81C-46E4-86BB-E103E677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2D5-97F8-412C-A63C-F5EDF370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217-EC13-4245-9683-1A4A5E71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986-336E-49B0-B69D-05EC1142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CCD8-3E7D-4EDE-9926-49FAA8E6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0BB7-4D57-4B59-8E7F-30AFAF0A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6B54-C347-4CB7-86FF-807B6B78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A5D2-692D-4726-813E-E41C63B4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85BA-83A8-442A-B979-E4EF2050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E22A-F5D6-419A-B75F-3B4BC3D0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2D17-2774-4FAC-8881-B0D39D0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3D1-FB7E-4630-A355-1C69173F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27F-3E3F-4F85-95A8-12FA0AA2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3FA4-6491-4F90-94F9-726130B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6508-54CD-43A2-87AC-B2ADABCE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3AD5-F7E1-4D1E-BCFD-05D5C5AE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C95-4581-488E-82B1-9942E33F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B918-B854-47BF-9725-42EBA91F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24DD-F47B-490F-9C5F-B2E2E171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3F3A-1D1A-4AF7-9187-797AB7A0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8208-FBC2-44C2-94D6-55BE40A2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A0CC-2CFF-47D4-883A-B0CFF95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098-1111-486A-B8E0-6F8D9339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69A6-7EF8-4DC3-B4D5-CD98CA01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589F-9162-40DF-B7D3-289F49A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8A89-CD9A-498F-8C71-3785433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8FF5-5822-4DC7-A5CC-23E9FA1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94F5-5E4B-45F3-B538-A361E34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5F50-F3AC-42C1-8A36-CD7930F0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20E8-A0C8-47EC-B5BE-8DC4521B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9E5-552A-4479-9393-1127A161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A65-31E9-4127-AB96-DD97AB3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955-B402-4324-8D52-B79A140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25C-FA69-4259-8560-96C08C8D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90B-ED8A-4942-AAF3-0AD12B4B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6D5-A229-4807-B7BD-ECBD1DD1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businessblog.winweb.com/wp-content/uploads/2010/06/BK.jp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hyperlink" Target="http://logos-plus.narod.ru/docs1.jpg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3D2-FEE5-4195-8F95-A025266B65C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70 из 7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2912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http://www.mamazone.pl/media/62521/d%C5%82ugi.jpg"/>
          <p:cNvPicPr/>
          <p:nvPr/>
        </p:nvPicPr>
        <p:blipFill>
          <a:blip r:embed="rId5"/>
          <a:srcRect l="0" t="0" r="0" b="7933"/>
          <a:stretch/>
        </p:blipFill>
        <p:spPr>
          <a:xfrm>
            <a:off x="4286160" y="785880"/>
            <a:ext cx="3000600" cy="4143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5" descr="Картинка 42 из 10215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15080" y="3143160"/>
            <a:ext cx="2286000" cy="33987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6"/>
          <p:cNvGrpSpPr/>
          <p:nvPr/>
        </p:nvGrpSpPr>
        <p:grpSpPr>
          <a:xfrm>
            <a:off x="7215120" y="142920"/>
            <a:ext cx="1714320" cy="713520"/>
            <a:chOff x="7215120" y="142920"/>
            <a:chExt cx="1714320" cy="713520"/>
          </a:xfrm>
        </p:grpSpPr>
        <p:pic>
          <p:nvPicPr>
            <p:cNvPr id="45" name="Text Box 14" descr=""/>
            <p:cNvPicPr/>
            <p:nvPr/>
          </p:nvPicPr>
          <p:blipFill>
            <a:blip r:embed="rId8"/>
            <a:stretch/>
          </p:blipFill>
          <p:spPr>
            <a:xfrm>
              <a:off x="7215120" y="425160"/>
              <a:ext cx="1714320" cy="4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15"/>
            <p:cNvSpPr/>
            <p:nvPr/>
          </p:nvSpPr>
          <p:spPr>
            <a:xfrm rot="5400000">
              <a:off x="7750440" y="-317520"/>
              <a:ext cx="441360" cy="136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5e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20"/>
          <p:cNvSpPr/>
          <p:nvPr/>
        </p:nvSpPr>
        <p:spPr>
          <a:xfrm>
            <a:off x="214200" y="3714840"/>
            <a:ext cx="39290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18D-159E-4DE1-B5C9-EF5FBD7EB6F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3"/>
          <p:cNvSpPr/>
          <p:nvPr/>
        </p:nvSpPr>
        <p:spPr>
          <a:xfrm>
            <a:off x="214200" y="1429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02a43"/>
                </a:solidFill>
                <a:latin typeface="Arial"/>
              </a:rPr>
              <a:t>Министерство образования Моск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f4064"/>
                </a:solidFill>
                <a:latin typeface="Arial"/>
              </a:rPr>
              <a:t>ГОУ Педагогическая акад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DF66-CD05-4794-9758-0536CA7E85B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84360" y="1484280"/>
            <a:ext cx="7920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4740"/>
                </a:solidFill>
                <a:latin typeface="Arial"/>
              </a:rPr>
              <a:t>О подготовке к экзамену по математике (ОГЭ, ГВЭ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родители могут помочь своим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5d7e"/>
                </a:solidFill>
                <a:latin typeface="Arial"/>
              </a:rPr>
              <a:t>Белай Елена Никола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5d7e"/>
                </a:solidFill>
                <a:latin typeface="Arial"/>
              </a:rPr>
              <a:t>доцент кафедры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5d7e"/>
                </a:solidFill>
                <a:latin typeface="Arial"/>
              </a:rPr>
              <a:t>ГБОУ ИРО 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360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56908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2"/>
          <a:stretch/>
        </p:blipFill>
        <p:spPr>
          <a:xfrm>
            <a:off x="985680" y="1809720"/>
            <a:ext cx="6985080" cy="42483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1116000" y="1268280"/>
            <a:ext cx="7416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iro23.ru/institut/struktura/kafedry/kafedra-matematiki-i-informat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4" descr=""/>
          <p:cNvPicPr/>
          <p:nvPr/>
        </p:nvPicPr>
        <p:blipFill>
          <a:blip r:embed="rId2"/>
          <a:stretch/>
        </p:blipFill>
        <p:spPr>
          <a:xfrm>
            <a:off x="1116000" y="2149560"/>
            <a:ext cx="6854760" cy="397008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"/>
          <p:cNvSpPr/>
          <p:nvPr/>
        </p:nvSpPr>
        <p:spPr>
          <a:xfrm>
            <a:off x="395280" y="1197000"/>
            <a:ext cx="777708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iro23.ru/podgotovka-k-attestacii-uchashchihsya/kraevye-diagnosticheskie-raboty/specifikacii-i-kodifik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2627280" y="1219320"/>
            <a:ext cx="2711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4" descr=""/>
          <p:cNvPicPr/>
          <p:nvPr/>
        </p:nvPicPr>
        <p:blipFill>
          <a:blip r:embed="rId2"/>
          <a:stretch/>
        </p:blipFill>
        <p:spPr>
          <a:xfrm>
            <a:off x="468360" y="1903320"/>
            <a:ext cx="8207280" cy="39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2627280" y="1219320"/>
            <a:ext cx="2952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"/>
          <p:cNvPicPr/>
          <p:nvPr/>
        </p:nvPicPr>
        <p:blipFill>
          <a:blip r:embed="rId2"/>
          <a:stretch/>
        </p:blipFill>
        <p:spPr>
          <a:xfrm>
            <a:off x="108000" y="2349360"/>
            <a:ext cx="88567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556480" cy="43178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"/>
          <p:cNvSpPr/>
          <p:nvPr/>
        </p:nvSpPr>
        <p:spPr>
          <a:xfrm>
            <a:off x="2627280" y="1219320"/>
            <a:ext cx="2711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627280" y="1219320"/>
            <a:ext cx="2711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заданий (№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5-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"/>
          <p:cNvPicPr/>
          <p:nvPr/>
        </p:nvPicPr>
        <p:blipFill>
          <a:blip r:embed="rId2"/>
          <a:stretch/>
        </p:blipFill>
        <p:spPr>
          <a:xfrm>
            <a:off x="250920" y="1903320"/>
            <a:ext cx="856908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900000" y="2852640"/>
            <a:ext cx="770436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Желаем успехов на экзамен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8000" y="1484280"/>
            <a:ext cx="8785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КИМ ОГЭ-2018 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26 зад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с краткой записью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заданий с развернуты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экзамена 3 ч 55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8000" y="1484280"/>
            <a:ext cx="87850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од баллов в отм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520560" y="2401920"/>
            <a:ext cx="810288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08000" y="1484280"/>
            <a:ext cx="878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КИМ ГВЭ-2018 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экзамена 3 ч 55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2276640"/>
          <a:ext cx="7575480" cy="2806560"/>
        </p:xfrm>
        <a:graphic>
          <a:graphicData uri="http://schemas.openxmlformats.org/drawingml/2006/table">
            <a:tbl>
              <a:tblPr/>
              <a:tblGrid>
                <a:gridCol w="3787920"/>
                <a:gridCol w="378756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кировки А и 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кировка 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12 заданий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с краткой записью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задания с развернутым реш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10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краткой записью от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08000" y="1197000"/>
            <a:ext cx="87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од баллов в отметки «А» и 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од баллов в отметки «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1916280"/>
          <a:ext cx="7848720" cy="151272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70320"/>
              </a:tblGrid>
              <a:tr h="59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95280" y="4437000"/>
          <a:ext cx="7848720" cy="134640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70320"/>
              </a:tblGrid>
              <a:tr h="6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250920" y="1557360"/>
            <a:ext cx="871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полнении заданий разрешается пользоваться линейкой и справочными материалами, которые выдаются вместе с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лькуля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рандаш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допуск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писи в черновике не проверяю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324000" y="2136600"/>
            <a:ext cx="87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жим дня – правильное сочетание труда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успеваемости (электронный дневник, проверка выполнения домашних заданий, контакт с учителем математ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ческое решение заданий с помощью Интернет-ресурсов с ограничением п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193824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e1b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7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36:55Z</dcterms:created>
  <dc:creator>Неля</dc:creator>
  <dc:description/>
  <dc:language>en-US</dc:language>
  <cp:lastModifiedBy>Людмила Н. Терновая</cp:lastModifiedBy>
  <dcterms:modified xsi:type="dcterms:W3CDTF">2018-02-13T08:37:50Z</dcterms:modified>
  <cp:revision>306</cp:revision>
  <dc:subject/>
  <dc:title>ThemeGallery PowerTemplate</dc:title>
</cp:coreProperties>
</file>